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8B4A-38B0-402A-BAD8-6D3B1846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1326-0805-48F9-94DD-8CC02721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883C-730D-49AB-B8F5-467C76649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DB4C-AC11-4F7F-A5F1-69A515DDC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B331-F15C-4C7B-ADFB-CC1F1780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4325-22F4-4E7E-86FF-37CF43BB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82B1-A5CA-406C-958F-652F1284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796F-3A78-4D1B-A8E2-1A0FC7E9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A6C4-DAED-497D-9FE5-2B0A147B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7990-C73C-4771-9624-76E639E0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D6B0-6C55-4653-A620-3BA3ED20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1315-A73C-4051-B931-30E9B3AB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7D8A-F5DA-4054-8394-BFEC70B4C2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8567640" cy="587700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503280" y="2492280"/>
            <a:ext cx="8209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دبر أمر الخلائ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4"/>
          <a:stretch/>
        </p:blipFill>
        <p:spPr>
          <a:xfrm>
            <a:off x="250920" y="4149720"/>
            <a:ext cx="8297640" cy="1224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5"/>
          <a:stretch/>
        </p:blipFill>
        <p:spPr>
          <a:xfrm>
            <a:off x="395280" y="5600880"/>
            <a:ext cx="825804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31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400536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ستدلال بالنشأة الأولى على النشأة الأخر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3"/>
          <a:stretch/>
        </p:blipFill>
        <p:spPr>
          <a:xfrm>
            <a:off x="900000" y="981000"/>
            <a:ext cx="8126640" cy="647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4"/>
          <a:stretch/>
        </p:blipFill>
        <p:spPr>
          <a:xfrm>
            <a:off x="900000" y="3357720"/>
            <a:ext cx="7961400" cy="64764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250920" y="170172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لحذر من الكفر وأه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136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1324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014640" y="4675320"/>
            <a:ext cx="3213000" cy="4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ان تحدث الآيات السابقة عن صدق رسالة محمد صلى الله عليه وسل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ذكرت الآيات بعض شبهات الكافرين حول الدين الإسلام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88822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50920" y="1951200"/>
            <a:ext cx="8713800" cy="4646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108000" y="888840"/>
            <a:ext cx="8928000" cy="955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179280" y="522936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صرف أمر الخلائ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87200" y="595008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ع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190520"/>
            <a:ext cx="4176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إ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عظمة وقدرة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عظمة الخلق تدل على عظم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خال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ثبات صفة استواء الله على العرش بكيفي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تليق بجلال الله وعظم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وحده هو مدبر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ك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قع شيء إل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قضاء وقدر الله سبحان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رد على المشركين الذين يطلبون الشفاعة 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ولياء والصالح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08000" y="5445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شفاعة المثبتة هي التي تطلب 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سبحان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08000" y="6021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استدلال بتوحيد الربوبية على توح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لو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ستحق للعبادة هو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خالق المدب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سباب الهداي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تفك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بعث والنشو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استدلال على النشأة الأخرى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نشأة الأو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بشير المؤمن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ثواب العظي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ذاب الكافرين في الا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ظي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6T06:43:20Z</dcterms:modified>
  <cp:revision>1901</cp:revision>
  <dc:subject/>
  <dc:title>عرض تقديمي في PowerPoint</dc:title>
</cp:coreProperties>
</file>